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6AD-8C55-4B78-B703-501EB907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B47-1F9B-4CCF-B34C-A3B78897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062-A936-466A-A067-DFE242EC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7F6-2B26-4757-986E-C562163D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991A-F057-47F1-8AA8-361E1AB3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81DD-D9B6-4893-8CEC-F0F9A539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4174-6A0D-43B8-8F7F-32242E95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3104-9E32-4A64-8AA1-FB5444AF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AB41-5967-4ABC-8AFE-67D6F12C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50CD-FAE2-4429-A3C5-28BC1353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9A7E-3A2A-463E-A9D5-16849FEF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CFA9-1F25-4F94-BCA3-82F0DFD1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F5D0-159E-4E30-BAD5-DDE6F8B8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1C4D-350B-41B6-BEA0-DAA55FD0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A5AE-F106-4E97-887F-ABB29B95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2DEC-5F40-4983-B990-9D67331A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2A67-1F4E-435E-84BC-797F9E0F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DF4-A8EC-46B7-BFF7-6B340E46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C93-207F-4E57-B19F-FC0E8742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664-94C5-433A-ADAF-A18AE752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854-2B0A-47C9-B78C-8E99843F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B3F-B8C9-4B8A-8B63-02F987AD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2C3-3A21-45D5-A43F-1E5FDEAE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1A16-4FA0-4F62-BCD4-EDDD326D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1EDA-C8B7-44CB-8E46-FE8CCB0CA9E0}" type="slidenum">
              <a:rPr b="0" lang="ru-RU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9A65-7668-4701-8AE1-87D0CE0E6082}" type="slidenum">
              <a:rPr b="0" lang="ru-RU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TITU46"/>
          <p:cNvPicPr/>
          <p:nvPr/>
        </p:nvPicPr>
        <p:blipFill>
          <a:blip r:embed="rId1"/>
          <a:stretch/>
        </p:blipFill>
        <p:spPr>
          <a:xfrm>
            <a:off x="1403280" y="476280"/>
            <a:ext cx="7740720" cy="5805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35280" y="2214360"/>
            <a:ext cx="4086000" cy="15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DS Zombie Cyr"/>
              </a:rPr>
              <a:t>Карты ссылок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 rot="21427800">
            <a:off x="1398600" y="4193640"/>
            <a:ext cx="496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DS Zombie Cyr"/>
              </a:rPr>
              <a:t>Создание Web-сайт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900000" y="476280"/>
            <a:ext cx="503280" cy="576108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ямоугольник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(shape="rect"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235160" y="2876400"/>
            <a:ext cx="1295280" cy="22100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ямоугольник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(shape="rect"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04200" y="220968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1,Y1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453400" y="516240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2,Y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2" name="Group 5"/>
          <p:cNvGrpSpPr/>
          <p:nvPr/>
        </p:nvGrpSpPr>
        <p:grpSpPr>
          <a:xfrm>
            <a:off x="1193400" y="2847960"/>
            <a:ext cx="1365480" cy="2266920"/>
            <a:chOff x="1193400" y="2847960"/>
            <a:chExt cx="1365480" cy="2266920"/>
          </a:xfrm>
        </p:grpSpPr>
        <p:sp>
          <p:nvSpPr>
            <p:cNvPr id="153" name="Rectangle 6"/>
            <p:cNvSpPr/>
            <p:nvPr/>
          </p:nvSpPr>
          <p:spPr>
            <a:xfrm>
              <a:off x="1234800" y="2876400"/>
              <a:ext cx="1295640" cy="221004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AutoShape 7"/>
            <p:cNvSpPr/>
            <p:nvPr/>
          </p:nvSpPr>
          <p:spPr>
            <a:xfrm flipH="1">
              <a:off x="1193040" y="2847960"/>
              <a:ext cx="75960" cy="76320"/>
            </a:xfrm>
            <a:prstGeom prst="flowChartConnector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AutoShape 8"/>
            <p:cNvSpPr/>
            <p:nvPr/>
          </p:nvSpPr>
          <p:spPr>
            <a:xfrm flipH="1">
              <a:off x="2482560" y="5038560"/>
              <a:ext cx="76320" cy="76320"/>
            </a:xfrm>
            <a:prstGeom prst="flowChartConnector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ямоугольник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(shape="rect"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304200" y="220968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1,Y1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453400" y="516240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2,Y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1193400" y="2847960"/>
            <a:ext cx="1365480" cy="2266920"/>
            <a:chOff x="1193400" y="2847960"/>
            <a:chExt cx="1365480" cy="2266920"/>
          </a:xfrm>
        </p:grpSpPr>
        <p:sp>
          <p:nvSpPr>
            <p:cNvPr id="160" name="Rectangle 6"/>
            <p:cNvSpPr/>
            <p:nvPr/>
          </p:nvSpPr>
          <p:spPr>
            <a:xfrm>
              <a:off x="1234800" y="2876400"/>
              <a:ext cx="1295640" cy="221004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 flipH="1">
              <a:off x="1193040" y="2847960"/>
              <a:ext cx="75960" cy="76320"/>
            </a:xfrm>
            <a:prstGeom prst="flowChartConnector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AutoShape 8"/>
            <p:cNvSpPr/>
            <p:nvPr/>
          </p:nvSpPr>
          <p:spPr>
            <a:xfrm flipH="1">
              <a:off x="2482560" y="5038560"/>
              <a:ext cx="76320" cy="76320"/>
            </a:xfrm>
            <a:prstGeom prst="flowChartConnector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3" name="Text Box 9"/>
          <p:cNvSpPr/>
          <p:nvPr/>
        </p:nvSpPr>
        <p:spPr>
          <a:xfrm>
            <a:off x="3356280" y="3276720"/>
            <a:ext cx="57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ords="X1,Y1,X2,Y2"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кружность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(shape="circle"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914400" y="2514600"/>
            <a:ext cx="2743200" cy="2743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кружность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(shape="circle"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524240" y="3200400"/>
            <a:ext cx="11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,Y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8" name="Group 6"/>
          <p:cNvGrpSpPr/>
          <p:nvPr/>
        </p:nvGrpSpPr>
        <p:grpSpPr>
          <a:xfrm>
            <a:off x="914400" y="2514600"/>
            <a:ext cx="2743200" cy="2743200"/>
            <a:chOff x="914400" y="2514600"/>
            <a:chExt cx="2743200" cy="2743200"/>
          </a:xfrm>
        </p:grpSpPr>
        <p:sp>
          <p:nvSpPr>
            <p:cNvPr id="169" name="Oval 7"/>
            <p:cNvSpPr/>
            <p:nvPr/>
          </p:nvSpPr>
          <p:spPr>
            <a:xfrm>
              <a:off x="914400" y="2514600"/>
              <a:ext cx="2743200" cy="274320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AutoShape 8"/>
            <p:cNvSpPr/>
            <p:nvPr/>
          </p:nvSpPr>
          <p:spPr>
            <a:xfrm flipH="1">
              <a:off x="2247840" y="3848040"/>
              <a:ext cx="76320" cy="76320"/>
            </a:xfrm>
            <a:prstGeom prst="flowChartConnector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кружность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(shape="circle"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524240" y="3200400"/>
            <a:ext cx="11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,Y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914400" y="2514600"/>
            <a:ext cx="2743200" cy="2743200"/>
            <a:chOff x="914400" y="2514600"/>
            <a:chExt cx="2743200" cy="2743200"/>
          </a:xfrm>
        </p:grpSpPr>
        <p:sp>
          <p:nvSpPr>
            <p:cNvPr id="174" name="Line 5"/>
            <p:cNvSpPr/>
            <p:nvPr/>
          </p:nvSpPr>
          <p:spPr>
            <a:xfrm>
              <a:off x="2286000" y="3886200"/>
              <a:ext cx="971640" cy="971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75" name="Group 6"/>
            <p:cNvGrpSpPr/>
            <p:nvPr/>
          </p:nvGrpSpPr>
          <p:grpSpPr>
            <a:xfrm>
              <a:off x="914400" y="2514600"/>
              <a:ext cx="2743200" cy="2743200"/>
              <a:chOff x="914400" y="2514600"/>
              <a:chExt cx="2743200" cy="2743200"/>
            </a:xfrm>
          </p:grpSpPr>
          <p:sp>
            <p:nvSpPr>
              <p:cNvPr id="176" name="Oval 7"/>
              <p:cNvSpPr/>
              <p:nvPr/>
            </p:nvSpPr>
            <p:spPr>
              <a:xfrm>
                <a:off x="914400" y="2514600"/>
                <a:ext cx="2743200" cy="2743200"/>
              </a:xfrm>
              <a:prstGeom prst="ellipse">
                <a:avLst/>
              </a:prstGeom>
              <a:noFill/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7" name="AutoShape 8"/>
              <p:cNvSpPr/>
              <p:nvPr/>
            </p:nvSpPr>
            <p:spPr>
              <a:xfrm flipH="1">
                <a:off x="2247840" y="3848040"/>
                <a:ext cx="76320" cy="76320"/>
              </a:xfrm>
              <a:prstGeom prst="flowChartConnector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8" name="Rectangle 9"/>
          <p:cNvSpPr/>
          <p:nvPr/>
        </p:nvSpPr>
        <p:spPr>
          <a:xfrm>
            <a:off x="2668680" y="3809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кружность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(shape="circle"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524240" y="3200400"/>
            <a:ext cx="11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,Y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914400" y="2514600"/>
            <a:ext cx="2743200" cy="2743200"/>
            <a:chOff x="914400" y="2514600"/>
            <a:chExt cx="2743200" cy="2743200"/>
          </a:xfrm>
        </p:grpSpPr>
        <p:sp>
          <p:nvSpPr>
            <p:cNvPr id="182" name="Line 5"/>
            <p:cNvSpPr/>
            <p:nvPr/>
          </p:nvSpPr>
          <p:spPr>
            <a:xfrm>
              <a:off x="2286000" y="3886200"/>
              <a:ext cx="971640" cy="971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83" name="Group 6"/>
            <p:cNvGrpSpPr/>
            <p:nvPr/>
          </p:nvGrpSpPr>
          <p:grpSpPr>
            <a:xfrm>
              <a:off x="914400" y="2514600"/>
              <a:ext cx="2743200" cy="2743200"/>
              <a:chOff x="914400" y="2514600"/>
              <a:chExt cx="2743200" cy="2743200"/>
            </a:xfrm>
          </p:grpSpPr>
          <p:sp>
            <p:nvSpPr>
              <p:cNvPr id="184" name="Oval 7"/>
              <p:cNvSpPr/>
              <p:nvPr/>
            </p:nvSpPr>
            <p:spPr>
              <a:xfrm>
                <a:off x="914400" y="2514600"/>
                <a:ext cx="2743200" cy="2743200"/>
              </a:xfrm>
              <a:prstGeom prst="ellipse">
                <a:avLst/>
              </a:prstGeom>
              <a:noFill/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" name="AutoShape 8"/>
              <p:cNvSpPr/>
              <p:nvPr/>
            </p:nvSpPr>
            <p:spPr>
              <a:xfrm flipH="1">
                <a:off x="2247840" y="3848040"/>
                <a:ext cx="76320" cy="76320"/>
              </a:xfrm>
              <a:prstGeom prst="flowChartConnector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Rectangle 9"/>
          <p:cNvSpPr/>
          <p:nvPr/>
        </p:nvSpPr>
        <p:spPr>
          <a:xfrm>
            <a:off x="2668680" y="3809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4649400" y="3200400"/>
            <a:ext cx="404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ords="X,Y,R"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Многоугольник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(shape="poly"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89" name="Group 19"/>
          <p:cNvGrpSpPr/>
          <p:nvPr/>
        </p:nvGrpSpPr>
        <p:grpSpPr>
          <a:xfrm>
            <a:off x="2933640" y="2400120"/>
            <a:ext cx="3429000" cy="1981440"/>
            <a:chOff x="2933640" y="2400120"/>
            <a:chExt cx="3429000" cy="1981440"/>
          </a:xfrm>
        </p:grpSpPr>
        <p:sp>
          <p:nvSpPr>
            <p:cNvPr id="190" name="Line 9"/>
            <p:cNvSpPr/>
            <p:nvPr/>
          </p:nvSpPr>
          <p:spPr>
            <a:xfrm flipV="1">
              <a:off x="2933640" y="2400120"/>
              <a:ext cx="1828800" cy="10666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" name="Line 12"/>
            <p:cNvSpPr/>
            <p:nvPr/>
          </p:nvSpPr>
          <p:spPr>
            <a:xfrm>
              <a:off x="2933640" y="3467160"/>
              <a:ext cx="3429000" cy="9144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Line 13"/>
            <p:cNvSpPr/>
            <p:nvPr/>
          </p:nvSpPr>
          <p:spPr>
            <a:xfrm>
              <a:off x="4762440" y="2400480"/>
              <a:ext cx="1600200" cy="19810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Многоугольник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(shape="poly"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2895480" y="2362320"/>
            <a:ext cx="3505320" cy="2057400"/>
            <a:chOff x="2895480" y="2362320"/>
            <a:chExt cx="3505320" cy="2057400"/>
          </a:xfrm>
        </p:grpSpPr>
        <p:grpSp>
          <p:nvGrpSpPr>
            <p:cNvPr id="195" name="Group 5"/>
            <p:cNvGrpSpPr/>
            <p:nvPr/>
          </p:nvGrpSpPr>
          <p:grpSpPr>
            <a:xfrm>
              <a:off x="2895480" y="2362320"/>
              <a:ext cx="3505320" cy="2057400"/>
              <a:chOff x="2895480" y="2362320"/>
              <a:chExt cx="3505320" cy="2057400"/>
            </a:xfrm>
          </p:grpSpPr>
          <p:sp>
            <p:nvSpPr>
              <p:cNvPr id="196" name="AutoShape 6"/>
              <p:cNvSpPr/>
              <p:nvPr/>
            </p:nvSpPr>
            <p:spPr>
              <a:xfrm flipH="1">
                <a:off x="2895480" y="3429000"/>
                <a:ext cx="76320" cy="76320"/>
              </a:xfrm>
              <a:prstGeom prst="flowChartConnector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" name="AutoShape 7"/>
              <p:cNvSpPr/>
              <p:nvPr/>
            </p:nvSpPr>
            <p:spPr>
              <a:xfrm flipH="1">
                <a:off x="4724280" y="2362320"/>
                <a:ext cx="76320" cy="75960"/>
              </a:xfrm>
              <a:prstGeom prst="flowChartConnector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8" name="AutoShape 8"/>
              <p:cNvSpPr/>
              <p:nvPr/>
            </p:nvSpPr>
            <p:spPr>
              <a:xfrm flipH="1">
                <a:off x="6324480" y="4343400"/>
                <a:ext cx="76320" cy="76320"/>
              </a:xfrm>
              <a:prstGeom prst="flowChartConnector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9" name="Line 9"/>
              <p:cNvSpPr/>
              <p:nvPr/>
            </p:nvSpPr>
            <p:spPr>
              <a:xfrm flipV="1">
                <a:off x="2933640" y="2400120"/>
                <a:ext cx="1828800" cy="10666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2933640" y="3467160"/>
                <a:ext cx="3429000" cy="9144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1" name="Line 11"/>
            <p:cNvSpPr/>
            <p:nvPr/>
          </p:nvSpPr>
          <p:spPr>
            <a:xfrm>
              <a:off x="4762440" y="2400480"/>
              <a:ext cx="1600200" cy="19810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2" name="Rectangle 12"/>
          <p:cNvSpPr/>
          <p:nvPr/>
        </p:nvSpPr>
        <p:spPr>
          <a:xfrm>
            <a:off x="1218600" y="30481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1,Y1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4952160" y="19051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2,Y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6476400" y="365760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3,Y3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Многоугольник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(shape="poly"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839880" y="5181480"/>
            <a:ext cx="746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ords="X1,Y1,X2,Y2,X3,Y3"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7" name="Group 4"/>
          <p:cNvGrpSpPr/>
          <p:nvPr/>
        </p:nvGrpSpPr>
        <p:grpSpPr>
          <a:xfrm>
            <a:off x="2895480" y="2362320"/>
            <a:ext cx="3505320" cy="2057400"/>
            <a:chOff x="2895480" y="2362320"/>
            <a:chExt cx="3505320" cy="2057400"/>
          </a:xfrm>
        </p:grpSpPr>
        <p:grpSp>
          <p:nvGrpSpPr>
            <p:cNvPr id="208" name="Group 5"/>
            <p:cNvGrpSpPr/>
            <p:nvPr/>
          </p:nvGrpSpPr>
          <p:grpSpPr>
            <a:xfrm>
              <a:off x="2895480" y="2362320"/>
              <a:ext cx="3505320" cy="2057400"/>
              <a:chOff x="2895480" y="2362320"/>
              <a:chExt cx="3505320" cy="2057400"/>
            </a:xfrm>
          </p:grpSpPr>
          <p:sp>
            <p:nvSpPr>
              <p:cNvPr id="209" name="AutoShape 6"/>
              <p:cNvSpPr/>
              <p:nvPr/>
            </p:nvSpPr>
            <p:spPr>
              <a:xfrm flipH="1">
                <a:off x="2895480" y="3429000"/>
                <a:ext cx="76320" cy="76320"/>
              </a:xfrm>
              <a:prstGeom prst="flowChartConnector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0" name="AutoShape 7"/>
              <p:cNvSpPr/>
              <p:nvPr/>
            </p:nvSpPr>
            <p:spPr>
              <a:xfrm flipH="1">
                <a:off x="4724280" y="2362320"/>
                <a:ext cx="76320" cy="75960"/>
              </a:xfrm>
              <a:prstGeom prst="flowChartConnector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1" name="AutoShape 8"/>
              <p:cNvSpPr/>
              <p:nvPr/>
            </p:nvSpPr>
            <p:spPr>
              <a:xfrm flipH="1">
                <a:off x="6324480" y="4343400"/>
                <a:ext cx="76320" cy="76320"/>
              </a:xfrm>
              <a:prstGeom prst="flowChartConnector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2" name="Line 9"/>
              <p:cNvSpPr/>
              <p:nvPr/>
            </p:nvSpPr>
            <p:spPr>
              <a:xfrm flipV="1">
                <a:off x="2933640" y="2400120"/>
                <a:ext cx="1828800" cy="10666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3" name="Line 10"/>
              <p:cNvSpPr/>
              <p:nvPr/>
            </p:nvSpPr>
            <p:spPr>
              <a:xfrm>
                <a:off x="2933640" y="3467160"/>
                <a:ext cx="3429000" cy="9144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4" name="Line 11"/>
            <p:cNvSpPr/>
            <p:nvPr/>
          </p:nvSpPr>
          <p:spPr>
            <a:xfrm>
              <a:off x="4762440" y="2400480"/>
              <a:ext cx="1600200" cy="19810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5" name="Rectangle 12"/>
          <p:cNvSpPr/>
          <p:nvPr/>
        </p:nvSpPr>
        <p:spPr>
          <a:xfrm>
            <a:off x="1218600" y="30481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1,Y1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4952160" y="19051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2,Y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6476400" y="365760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3,Y3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520" y="713880"/>
            <a:ext cx="8826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рты ссылок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214200" y="1643040"/>
            <a:ext cx="8501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Карта ссылок - это изображение, разбитое на определенные зоны, каждая из которых представляет собой гиперссылку. После щелчка кнопкой мыши в пределах зоны браузер открывает страницу, отвечающую этой зоне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Для удобства выбора зоны изображение должно состоять, по возможности, из четко разграниченных областей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33280" y="345600"/>
            <a:ext cx="8910720" cy="612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IMG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src="cxema.png" 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width="265" height="330"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  b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order="1"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usemap="#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remlin"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alt="Схема Московского Кремля"&gt;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33280" y="344880"/>
            <a:ext cx="8910720" cy="61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IMG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src="cxema.png" 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width="265" height="330"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  b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order="1"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usemap="#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k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remlin"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alt="Схема Московского Кремля"&gt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&lt;MAP name="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remlin"&gt;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&lt;/MAP&gt;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3280" y="344880"/>
            <a:ext cx="8910720" cy="61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IMG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src="cxema.png" 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width="265" height="330"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  b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order="1"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usemap="#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k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remlin"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alt="Схема Московского Кремля"&gt;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&lt;MAP name="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k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remlin"&gt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&lt;AREA shape="rect" coords="203,76,216,146"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ref="#anchor1"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alt="Спасская"&gt;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&lt;/MAP&gt;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3280" y="344880"/>
            <a:ext cx="8910720" cy="61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IMG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src="cxema.png" 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width="265" height="330"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  b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order="1"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usemap="#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k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remlin"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alt="Схема Московского Кремля"&gt;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&lt;MAP name="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k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remlin"&gt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&lt;AREA shape="rect" coords="203,76,216,146"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ref="#anchor1"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alt="Спасская"&gt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&lt;AREA shape="rect" coords="129,21,148,87"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ref="#anchor2"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alt="Никольская"&gt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. . . . . . . . . . . . . . . . . . . . . . . . . . . . . . . . . . . . 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shape="rect" coords="216,147,224,162"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ref="#anchor8"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alt="Царская"&gt;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&lt;/MAP&gt;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рты ссылок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214200" y="1785960"/>
            <a:ext cx="864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Прежде чем создавать карту ссылок, надо в графическом редакторе определить координаты крайних точек зон. Зоны могут быть трех типов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99"/>
                </a:solidFill>
                <a:latin typeface="Arial"/>
                <a:ea typeface="Arial"/>
              </a:rPr>
              <a:t>Прямоугольная зона (rect).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В этом случае задаются координаты двух точек - левого верхнего угла, правого нижнего угла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99"/>
                </a:solidFill>
                <a:latin typeface="Arial"/>
                <a:ea typeface="Arial"/>
              </a:rPr>
              <a:t>Многоугольник (poly).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Здесь задаются координаты каждой точки многоугольника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99"/>
                </a:solidFill>
                <a:latin typeface="Arial"/>
                <a:ea typeface="Arial"/>
              </a:rPr>
              <a:t>Круг (circle).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В этом случае задается координата центра круга и его радиус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520" y="713880"/>
            <a:ext cx="8826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рты ссылок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786040" y="3286080"/>
            <a:ext cx="6143760" cy="1312920"/>
          </a:xfrm>
          <a:prstGeom prst="rect">
            <a:avLst/>
          </a:prstGeom>
          <a:noFill/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&lt;IMG   src=“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имя файла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"  usemap="#map_name"&gt;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214200" y="172080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Для создания карты ссылок необходимо вставить нужное изображение с помощью тега &lt;IMG&gt;, затем, при помощи атрибута USEMAP, присвоить ему имя. После этого можно приступить непосредственно к вводу данных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285840" y="478620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Arial"/>
              </a:rPr>
              <a:t>&lt;img src="img/map.jpg" </a:t>
            </a:r>
            <a:r>
              <a:rPr b="1" lang="ru-RU" sz="28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99"/>
                </a:solidFill>
                <a:latin typeface="Arial"/>
              </a:rPr>
              <a:t>width="132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</a:rPr>
              <a:t>"</a:t>
            </a:r>
            <a:r>
              <a:rPr b="1" lang="ru-RU" sz="28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99"/>
                </a:solidFill>
                <a:latin typeface="Arial"/>
              </a:rPr>
              <a:t> height="121"</a:t>
            </a:r>
            <a:r>
              <a:rPr b="1" lang="ru-RU" sz="2800" spc="-1" strike="noStrike">
                <a:solidFill>
                  <a:srgbClr val="66ff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ff99"/>
                </a:solidFill>
                <a:latin typeface="Arial"/>
              </a:rPr>
              <a:t>border="0" usemap="#australia"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"/>
          <p:cNvSpPr/>
          <p:nvPr/>
        </p:nvSpPr>
        <p:spPr>
          <a:xfrm>
            <a:off x="142920" y="2214720"/>
            <a:ext cx="5929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map name="australia"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area shape="rect" coords="0,0,68,60"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ref="lsn022_1.html" target="_blank"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lt="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еверо-восточна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часть Австралии"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/map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286160" y="2286000"/>
            <a:ext cx="485784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ref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– гиперссылк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alt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альтернативный текст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shape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чертания област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4" marL="719280" indent="-228600">
              <a:lnSpc>
                <a:spcPct val="100000"/>
              </a:lnSpc>
              <a:spcBef>
                <a:spcPts val="601"/>
              </a:spcBef>
              <a:buClr>
                <a:srgbClr val="cc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rect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– прямоугольни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4" marL="719280" indent="-228600">
              <a:lnSpc>
                <a:spcPct val="100000"/>
              </a:lnSpc>
              <a:spcBef>
                <a:spcPts val="601"/>
              </a:spcBef>
              <a:buClr>
                <a:srgbClr val="cc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ircle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– окружност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4" marL="719280" indent="-228600">
              <a:lnSpc>
                <a:spcPct val="100000"/>
              </a:lnSpc>
              <a:spcBef>
                <a:spcPts val="601"/>
              </a:spcBef>
              <a:buClr>
                <a:srgbClr val="cc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poly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многоугольни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oords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координаты област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rget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–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пособ открытия окна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792680" y="1785960"/>
            <a:ext cx="4208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Атрибуты тэга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RE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42920" y="142920"/>
            <a:ext cx="862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Структура карты формируется с помощью тэга-контейнера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P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Области карты задаются тэгами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AREA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оординаты рисунка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2743200" y="2590920"/>
            <a:ext cx="4191120" cy="2666880"/>
            <a:chOff x="2743200" y="2590920"/>
            <a:chExt cx="4191120" cy="2666880"/>
          </a:xfrm>
        </p:grpSpPr>
        <p:sp>
          <p:nvSpPr>
            <p:cNvPr id="106" name="Rectangle 3"/>
            <p:cNvSpPr/>
            <p:nvPr/>
          </p:nvSpPr>
          <p:spPr>
            <a:xfrm>
              <a:off x="2743200" y="2590920"/>
              <a:ext cx="4191120" cy="266688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7" name="Group 7"/>
            <p:cNvGrpSpPr/>
            <p:nvPr/>
          </p:nvGrpSpPr>
          <p:grpSpPr>
            <a:xfrm>
              <a:off x="3695760" y="2781360"/>
              <a:ext cx="2286000" cy="2286000"/>
              <a:chOff x="3695760" y="2781360"/>
              <a:chExt cx="2286000" cy="228600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3695760" y="2781360"/>
                <a:ext cx="2286000" cy="2286000"/>
              </a:xfrm>
              <a:prstGeom prst="sun">
                <a:avLst>
                  <a:gd name="adj" fmla="val 25000"/>
                </a:avLst>
              </a:prstGeom>
              <a:solidFill>
                <a:srgbClr val="ffcc00"/>
              </a:solid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4229280" y="3314880"/>
                <a:ext cx="1219320" cy="1200240"/>
              </a:xfrm>
              <a:prstGeom prst="smileyFace">
                <a:avLst>
                  <a:gd name="adj" fmla="val 9282"/>
                </a:avLst>
              </a:prstGeom>
              <a:solidFill>
                <a:srgbClr val="ffcc00"/>
              </a:solid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оординаты рисунка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009520" y="1935000"/>
            <a:ext cx="9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,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2" name="Group 18"/>
          <p:cNvGrpSpPr/>
          <p:nvPr/>
        </p:nvGrpSpPr>
        <p:grpSpPr>
          <a:xfrm>
            <a:off x="2700360" y="2565360"/>
            <a:ext cx="4233960" cy="2692440"/>
            <a:chOff x="2700360" y="2565360"/>
            <a:chExt cx="4233960" cy="2692440"/>
          </a:xfrm>
        </p:grpSpPr>
        <p:grpSp>
          <p:nvGrpSpPr>
            <p:cNvPr id="113" name="Group 3"/>
            <p:cNvGrpSpPr/>
            <p:nvPr/>
          </p:nvGrpSpPr>
          <p:grpSpPr>
            <a:xfrm>
              <a:off x="2743200" y="2590920"/>
              <a:ext cx="4191120" cy="2666880"/>
              <a:chOff x="2743200" y="2590920"/>
              <a:chExt cx="4191120" cy="2666880"/>
            </a:xfrm>
          </p:grpSpPr>
          <p:sp>
            <p:nvSpPr>
              <p:cNvPr id="114" name="Rectangle 4"/>
              <p:cNvSpPr/>
              <p:nvPr/>
            </p:nvSpPr>
            <p:spPr>
              <a:xfrm>
                <a:off x="2743200" y="2590920"/>
                <a:ext cx="4191120" cy="266688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15" name="Group 5"/>
              <p:cNvGrpSpPr/>
              <p:nvPr/>
            </p:nvGrpSpPr>
            <p:grpSpPr>
              <a:xfrm>
                <a:off x="3695760" y="2781360"/>
                <a:ext cx="2286000" cy="2286000"/>
                <a:chOff x="3695760" y="2781360"/>
                <a:chExt cx="2286000" cy="2286000"/>
              </a:xfrm>
            </p:grpSpPr>
            <p:sp>
              <p:nvSpPr>
                <p:cNvPr id="116" name="AutoShape 6"/>
                <p:cNvSpPr/>
                <p:nvPr/>
              </p:nvSpPr>
              <p:spPr>
                <a:xfrm>
                  <a:off x="3695760" y="2781360"/>
                  <a:ext cx="2286000" cy="228600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7"/>
                <p:cNvSpPr/>
                <p:nvPr/>
              </p:nvSpPr>
              <p:spPr>
                <a:xfrm>
                  <a:off x="4229280" y="3314880"/>
                  <a:ext cx="1219320" cy="120024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cc00"/>
                </a:solidFill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" name="AutoShape 16"/>
            <p:cNvSpPr/>
            <p:nvPr/>
          </p:nvSpPr>
          <p:spPr>
            <a:xfrm flipH="1">
              <a:off x="2700360" y="2565360"/>
              <a:ext cx="76320" cy="76320"/>
            </a:xfrm>
            <a:prstGeom prst="flowChartConnector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оординаты рисунка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979280" y="1916280"/>
            <a:ext cx="9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,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3886200" y="2286000"/>
            <a:ext cx="19810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2362320" y="3124080"/>
            <a:ext cx="0" cy="1752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3" name="Group 15"/>
          <p:cNvGrpSpPr/>
          <p:nvPr/>
        </p:nvGrpSpPr>
        <p:grpSpPr>
          <a:xfrm>
            <a:off x="2700360" y="2565360"/>
            <a:ext cx="4233960" cy="2692440"/>
            <a:chOff x="2700360" y="2565360"/>
            <a:chExt cx="4233960" cy="2692440"/>
          </a:xfrm>
        </p:grpSpPr>
        <p:grpSp>
          <p:nvGrpSpPr>
            <p:cNvPr id="124" name="Group 3"/>
            <p:cNvGrpSpPr/>
            <p:nvPr/>
          </p:nvGrpSpPr>
          <p:grpSpPr>
            <a:xfrm>
              <a:off x="2743200" y="2590920"/>
              <a:ext cx="4191120" cy="2666880"/>
              <a:chOff x="2743200" y="2590920"/>
              <a:chExt cx="4191120" cy="2666880"/>
            </a:xfrm>
          </p:grpSpPr>
          <p:sp>
            <p:nvSpPr>
              <p:cNvPr id="125" name="Rectangle 4"/>
              <p:cNvSpPr/>
              <p:nvPr/>
            </p:nvSpPr>
            <p:spPr>
              <a:xfrm>
                <a:off x="2743200" y="2590920"/>
                <a:ext cx="4191120" cy="266688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26" name="Group 5"/>
              <p:cNvGrpSpPr/>
              <p:nvPr/>
            </p:nvGrpSpPr>
            <p:grpSpPr>
              <a:xfrm>
                <a:off x="3695760" y="2781360"/>
                <a:ext cx="2286000" cy="2286000"/>
                <a:chOff x="3695760" y="2781360"/>
                <a:chExt cx="2286000" cy="2286000"/>
              </a:xfrm>
            </p:grpSpPr>
            <p:sp>
              <p:nvSpPr>
                <p:cNvPr id="127" name="AutoShape 6"/>
                <p:cNvSpPr/>
                <p:nvPr/>
              </p:nvSpPr>
              <p:spPr>
                <a:xfrm>
                  <a:off x="3695760" y="2781360"/>
                  <a:ext cx="2286000" cy="228600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AutoShape 7"/>
                <p:cNvSpPr/>
                <p:nvPr/>
              </p:nvSpPr>
              <p:spPr>
                <a:xfrm>
                  <a:off x="4229280" y="3314880"/>
                  <a:ext cx="1219320" cy="120024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cc00"/>
                </a:solidFill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9" name="AutoShape 14"/>
            <p:cNvSpPr/>
            <p:nvPr/>
          </p:nvSpPr>
          <p:spPr>
            <a:xfrm flipH="1">
              <a:off x="2700360" y="2565360"/>
              <a:ext cx="76320" cy="76320"/>
            </a:xfrm>
            <a:prstGeom prst="flowChartConnector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оординаты рисунка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009520" y="1935000"/>
            <a:ext cx="9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,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6400800" y="1905120"/>
            <a:ext cx="164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1919520" y="5334120"/>
            <a:ext cx="164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,Y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868000" y="5334120"/>
            <a:ext cx="23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Y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3886200" y="2286000"/>
            <a:ext cx="19810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2362320" y="3124080"/>
            <a:ext cx="0" cy="1752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7" name="Group 18"/>
          <p:cNvGrpSpPr/>
          <p:nvPr/>
        </p:nvGrpSpPr>
        <p:grpSpPr>
          <a:xfrm>
            <a:off x="2700360" y="2565360"/>
            <a:ext cx="4253040" cy="2739960"/>
            <a:chOff x="2700360" y="2565360"/>
            <a:chExt cx="4253040" cy="2739960"/>
          </a:xfrm>
        </p:grpSpPr>
        <p:grpSp>
          <p:nvGrpSpPr>
            <p:cNvPr id="138" name="Group 3"/>
            <p:cNvGrpSpPr/>
            <p:nvPr/>
          </p:nvGrpSpPr>
          <p:grpSpPr>
            <a:xfrm>
              <a:off x="2743200" y="2590920"/>
              <a:ext cx="4191120" cy="2666880"/>
              <a:chOff x="2743200" y="2590920"/>
              <a:chExt cx="4191120" cy="2666880"/>
            </a:xfrm>
          </p:grpSpPr>
          <p:sp>
            <p:nvSpPr>
              <p:cNvPr id="139" name="Rectangle 4"/>
              <p:cNvSpPr/>
              <p:nvPr/>
            </p:nvSpPr>
            <p:spPr>
              <a:xfrm>
                <a:off x="2743200" y="2590920"/>
                <a:ext cx="4191120" cy="266688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40" name="Group 5"/>
              <p:cNvGrpSpPr/>
              <p:nvPr/>
            </p:nvGrpSpPr>
            <p:grpSpPr>
              <a:xfrm>
                <a:off x="3695760" y="2781360"/>
                <a:ext cx="2286000" cy="2286000"/>
                <a:chOff x="3695760" y="2781360"/>
                <a:chExt cx="2286000" cy="2286000"/>
              </a:xfrm>
            </p:grpSpPr>
            <p:sp>
              <p:nvSpPr>
                <p:cNvPr id="141" name="AutoShape 6"/>
                <p:cNvSpPr/>
                <p:nvPr/>
              </p:nvSpPr>
              <p:spPr>
                <a:xfrm>
                  <a:off x="3695760" y="2781360"/>
                  <a:ext cx="2286000" cy="228600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AutoShape 7"/>
                <p:cNvSpPr/>
                <p:nvPr/>
              </p:nvSpPr>
              <p:spPr>
                <a:xfrm>
                  <a:off x="4229280" y="3314880"/>
                  <a:ext cx="1219320" cy="120024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cc00"/>
                </a:solidFill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" name="AutoShape 14"/>
            <p:cNvSpPr/>
            <p:nvPr/>
          </p:nvSpPr>
          <p:spPr>
            <a:xfrm flipH="1">
              <a:off x="2700360" y="2565360"/>
              <a:ext cx="76320" cy="76320"/>
            </a:xfrm>
            <a:prstGeom prst="flowChartConnector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AutoShape 15"/>
            <p:cNvSpPr/>
            <p:nvPr/>
          </p:nvSpPr>
          <p:spPr>
            <a:xfrm flipH="1">
              <a:off x="2700360" y="5229360"/>
              <a:ext cx="76320" cy="75960"/>
            </a:xfrm>
            <a:prstGeom prst="flowChartConnector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" name="AutoShape 16"/>
            <p:cNvSpPr/>
            <p:nvPr/>
          </p:nvSpPr>
          <p:spPr>
            <a:xfrm flipH="1">
              <a:off x="6877080" y="2565360"/>
              <a:ext cx="76320" cy="76320"/>
            </a:xfrm>
            <a:prstGeom prst="flowChartConnector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AutoShape 17"/>
            <p:cNvSpPr/>
            <p:nvPr/>
          </p:nvSpPr>
          <p:spPr>
            <a:xfrm flipH="1">
              <a:off x="6877080" y="5229360"/>
              <a:ext cx="76320" cy="75960"/>
            </a:xfrm>
            <a:prstGeom prst="flowChartConnector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11:09:50Z</dcterms:created>
  <dc:creator>Михайлова Н.И.</dc:creator>
  <dc:description/>
  <dc:language>en-US</dc:language>
  <cp:lastModifiedBy>ELEN</cp:lastModifiedBy>
  <dcterms:modified xsi:type="dcterms:W3CDTF">2011-08-30T13:18:56Z</dcterms:modified>
  <cp:revision>158</cp:revision>
  <dc:subject/>
  <dc:title>Атрибуты тэгов</dc:title>
</cp:coreProperties>
</file>