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Л.Р. Газизова, Ульяновск, МОУ "Авторский лицей Эдварса №90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E3C5-EC74-4B7B-A56D-748216F088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4C6E-3330-4099-9AF3-A90F905B9A4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: Л.Р. Газизова, Ульяновск, МОУ "Авторский лицей Эдварса №9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3F7-F817-40CA-A7D8-3DC58C52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57F-4DD4-4919-A4FF-8B83CC25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9DF8C-3F05-413B-AA33-8952C6CF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E1A16-28F2-4C8F-9D59-6840B6CF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3A12D-5217-43E2-B5E3-6932ECF8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A198F-87A5-43A2-90C7-A10ED994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0117F-3EC3-40E1-9378-4418C126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C575F-CBB8-4152-B768-0D37FE7A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B1638-2058-4E6E-BDCF-040CB5CC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A221A-0A5B-4D68-9C8E-3C3F0EFE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3C004-18BA-4483-ADAB-4D18E605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0E4-8342-4FAE-9A98-688DF1A2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ED1-E107-4F1A-AF98-AE5BC74D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3B78-5CDD-40EC-8C09-F38D076F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C1DA-79F9-4FC1-8589-B6C585B9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F651-AC89-4C42-89F6-D3498BA3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1397-13AB-443C-9F4C-16ECB795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33E3-C199-4BA4-9466-1D8F32B7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712D-8421-412D-B137-1576F4DF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7E93-FED8-4641-9397-FD48AAB4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AA3-0D68-4447-821A-D002D05E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CC2E-8E2F-4D25-884A-8720697E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F952-23DA-4124-9724-67F51C98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5C53-6B36-4FB4-8105-CF84D4A1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216F-FEC5-4EF9-8EBA-E8F8C626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7155-1548-47CE-A7AC-4F7E1949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4B47-E941-4907-B75B-B4E8192F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065E-C9E2-4D53-BD78-7E4590A2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7A60-DAAC-4E89-81BA-2507F770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E628-DB22-430A-8419-62A5585B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0DB6-B62F-4D2A-ABA0-DDBB5271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1AC-C167-4971-A1E6-EAE260ED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56D3-683C-4BE5-9AB2-1224DD4B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30DDF-F542-4D82-A19A-A403C2AE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237B-7B5A-483D-B38D-8FAA1CA7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D1F91-8189-48AF-8420-9BCAA5C7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7400-0722-4B39-BF59-9CF4A336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C9E0-9B2A-49D6-A7DE-D676B460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4AF1-9E56-4637-AD32-A2C8A892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40C0-9BEC-4D0E-ADF5-B514237F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3A71-4F81-4841-A651-6EC072AC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75FDC-CEA3-44C0-BF7D-AC6BC1E8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70D-BF4A-478B-AAD3-10A301F6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AA96E-F1A8-4950-AC66-DA906757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800D-8771-4106-91EB-CC54805C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8D6E-A2CA-47FD-829F-C1C5BC5B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221A0-9CEC-4276-B3D7-7E897B91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0145-422C-49E4-ABA1-D4E4CC3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69FE-1B53-4272-AD7B-0CA5223C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B919-A2C1-42F7-BB3B-235D1436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2554B-5C44-4EC9-81CF-F16F929C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6ED19-110F-4B6B-9090-7E277D5A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CDA0-3405-4F7B-9332-B209D68A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C1A-880B-472F-87A8-1C711222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15F9-A38C-4012-B401-9BF12371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2398-FBB4-4CC2-937E-2B877601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922B-B979-45CF-AE6C-7F90C0A3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4E051-28A8-49D4-9FCF-0685AEFC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4D3E3-9725-434D-B3FC-5193BDF3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98137-D683-4D91-B974-BDDF4235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835A-8526-405A-A130-43277427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A7FBB-7355-49D3-916B-BEEEAD48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E8C0D-777B-43A4-8A6A-6016B719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97805-538C-43F5-951F-774C31AA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276-80D0-48E3-95FE-37A9EB72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A4D06-6D81-42FA-891F-975F9AB5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B1EB-3408-47D0-A180-F4E51D58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FA37-CBA3-48F8-A284-33721884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80BFD-B60F-431D-87A4-61273E43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23E34-23BE-492E-B881-98172C4E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8E13A-D88A-44EF-B80F-DCD7907C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48224-9AEF-41BD-A31F-32C437ED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84BF5-3F77-4E6A-AB46-68E2C955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1D8D-B723-4A12-8BC9-D71AD82E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DEB3B-18D6-4CB9-B438-9AB4050A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701-DCE1-4CDC-A7A0-A4E94931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7C54-7573-4638-BA05-3A2D790B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9E00-F7AE-4F4B-ACA2-F8EEE506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C374-BEED-4736-BF28-262323EB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4E1D9-9A97-4E0C-A954-C27E8F0C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D10B7-29CC-4AF6-BFED-8BA1A8C8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3A64E-767D-4348-AEF5-14231F04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1396-3A0E-459C-9A55-E7BBFA08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19862-91B9-4FFF-B311-5DDC0DCD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5D20A-BDE4-4F69-AAAE-48C1C3F9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D2E3-6F12-491E-A55C-36259E30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E34-F11C-42EF-B578-7781D57B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92E71-A73B-414C-A751-A534DD35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1024A-345B-4539-8308-55084AF6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B8BD-D300-4338-A6C0-B75D1ABA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F114-7878-41C9-93CF-98A22E84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91706-44B3-4449-824F-5D64A7F9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81F0B-FCC5-4C47-B010-B76FC268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533CB-7AEC-406C-8C4A-2E313E7B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DF064-929A-43E8-BE12-A010E0DA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FB252-DF49-4504-88A7-A713BF95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68D1C-127B-4BCC-B957-53CBA3BA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1A3-DCB7-4179-AB51-DE3D8575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8E89C-10E2-4FA7-B863-92808E46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B718C-98D9-41D2-BEE5-B44FBBF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CC085-FD21-4027-A02F-A6DD1FAB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EA46A-820E-4EB9-9186-86F70E5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271BD-92B4-4F2C-8A36-7DF50971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62BDC-9642-4351-B10F-38F0009B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D162-5A0A-4CB9-B53C-F0677531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D8222-545E-48B5-9D48-55C0F805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42E30-CDAE-433A-A13B-6D16023D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AA91F-8392-463D-B44B-D599A194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E316-C1EE-4613-8146-74E907BF602F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ACDD-AFB8-43D1-B671-54819358D073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1505-631C-4A93-996B-BCBDC8E87C69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5EEC-C420-43A6-AB9D-9E8363FF5E13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2905-705A-45EA-814F-07A8A46A1E99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8BEE-A624-4A49-98F1-126CDCF06019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F7B8-E45E-4046-BBAE-478C591DA4CD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42AB-9722-437C-93B3-D2061A9CA40E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9AD8-6BAF-4821-B511-91644CABDEB6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7"/>
          <p:cNvSpPr/>
          <p:nvPr/>
        </p:nvSpPr>
        <p:spPr>
          <a:xfrm>
            <a:off x="1214280" y="285840"/>
            <a:ext cx="6643800" cy="428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c5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37960" y="4475160"/>
            <a:ext cx="8766360" cy="14875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" descr="psixol_050207.jpg"/>
          <p:cNvPicPr/>
          <p:nvPr/>
        </p:nvPicPr>
        <p:blipFill>
          <a:blip r:embed="rId2"/>
          <a:stretch/>
        </p:blipFill>
        <p:spPr>
          <a:xfrm>
            <a:off x="1285920" y="347760"/>
            <a:ext cx="4152960" cy="4152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3"/>
          <a:stretch/>
        </p:blipFill>
        <p:spPr>
          <a:xfrm>
            <a:off x="5214960" y="1555920"/>
            <a:ext cx="2027160" cy="29588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10" descr="sun-animate.gif"/>
          <p:cNvPicPr/>
          <p:nvPr/>
        </p:nvPicPr>
        <p:blipFill>
          <a:blip r:embed="rId4"/>
          <a:stretch/>
        </p:blipFill>
        <p:spPr>
          <a:xfrm>
            <a:off x="4786200" y="0"/>
            <a:ext cx="1492200" cy="150984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399600" y="5572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Логомиры - компьютерная среда, развивающая творческие способности</a:t>
            </a: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1285920" y="6581880"/>
            <a:ext cx="78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Автор: Л.Р. Газизова, учитель информатики МБОУ «Авторский лицей Эдварса №90» г. Ульян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3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5"/>
          <p:cNvSpPr/>
          <p:nvPr/>
        </p:nvSpPr>
        <p:spPr>
          <a:xfrm>
            <a:off x="642960" y="12859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1. Создать фон для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9" descr=""/>
          <p:cNvPicPr/>
          <p:nvPr/>
        </p:nvPicPr>
        <p:blipFill>
          <a:blip r:embed="rId2"/>
          <a:stretch/>
        </p:blipFill>
        <p:spPr>
          <a:xfrm>
            <a:off x="714240" y="1857240"/>
            <a:ext cx="7925040" cy="445140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3"/>
          <p:cNvSpPr/>
          <p:nvPr/>
        </p:nvSpPr>
        <p:spPr>
          <a:xfrm>
            <a:off x="642960" y="11430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2. Добавить 3–х черепашек. «Превратить» в двух девочек и флажок.  У девочек в правилах команды пока не пис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1"/>
          <a:stretch/>
        </p:blipFill>
        <p:spPr>
          <a:xfrm>
            <a:off x="785880" y="2000160"/>
            <a:ext cx="7804080" cy="435780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pic>
        <p:nvPicPr>
          <p:cNvPr id="418" name="Picture 8" descr=""/>
          <p:cNvPicPr/>
          <p:nvPr/>
        </p:nvPicPr>
        <p:blipFill>
          <a:blip r:embed="rId2"/>
          <a:stretch/>
        </p:blipFill>
        <p:spPr>
          <a:xfrm>
            <a:off x="785880" y="3214800"/>
            <a:ext cx="46609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3"/>
          <p:cNvSpPr/>
          <p:nvPr/>
        </p:nvSpPr>
        <p:spPr>
          <a:xfrm>
            <a:off x="285840" y="11430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3. Создать два регулятора скорости с помощью кноп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4. Задать свойства для каждого бегунка-регулят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7858080" y="820800"/>
            <a:ext cx="1000080" cy="879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5352840" cy="2500200"/>
          </a:xfrm>
          <a:prstGeom prst="rect">
            <a:avLst/>
          </a:prstGeom>
          <a:ln w="19080">
            <a:solidFill>
              <a:srgbClr val="7fd13b"/>
            </a:solidFill>
            <a:miter/>
          </a:ln>
        </p:spPr>
      </p:pic>
      <p:pic>
        <p:nvPicPr>
          <p:cNvPr id="422" name="Picture 2" descr=""/>
          <p:cNvPicPr/>
          <p:nvPr/>
        </p:nvPicPr>
        <p:blipFill>
          <a:blip r:embed="rId3"/>
          <a:srcRect l="1400" t="0" r="0" b="0"/>
          <a:stretch/>
        </p:blipFill>
        <p:spPr>
          <a:xfrm>
            <a:off x="2857680" y="3786120"/>
            <a:ext cx="5798880" cy="2714760"/>
          </a:xfrm>
          <a:prstGeom prst="rect">
            <a:avLst/>
          </a:prstGeom>
          <a:ln w="1908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142920" y="1143000"/>
            <a:ext cx="9001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5. У  девочки, которая ближе к флажку, в правилах вве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92f"/>
                </a:solidFill>
                <a:latin typeface="Franklin Gothic Book"/>
              </a:rPr>
              <a:t>нф 1  вп  Д1скорость  жди 1  нф 2  вп  Д1скорость  жди 1 нф 3  вп  Д1скорость  жди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6. У  второй девочки в правилах вве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92f"/>
                </a:solidFill>
                <a:latin typeface="Franklin Gothic Book"/>
              </a:rPr>
              <a:t>нф 1  вп  Д2скорость  жди 1  нф 2  вп  Д2скорость  жди 1 нф 3  вп  Д2скорость  жди 1  нф 4  вп  Д2скорость  жди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7. Добавить кнопку </a:t>
            </a:r>
            <a:r>
              <a:rPr b="1" lang="ru-RU" sz="2800" spc="-1" strike="noStrike">
                <a:solidFill>
                  <a:srgbClr val="00192f"/>
                </a:solidFill>
                <a:latin typeface="Franklin Gothic Book"/>
              </a:rPr>
              <a:t>СТАРТ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 инструкцией  </a:t>
            </a:r>
            <a:r>
              <a:rPr b="1" lang="ru-RU" sz="2800" spc="-1" strike="noStrike">
                <a:solidFill>
                  <a:srgbClr val="00192f"/>
                </a:solidFill>
                <a:latin typeface="Franklin Gothic Book"/>
              </a:rPr>
              <a:t>каждая </a:t>
            </a:r>
            <a:r>
              <a:rPr b="1" lang="en-US" sz="2800" spc="-1" strike="noStrike">
                <a:solidFill>
                  <a:srgbClr val="00192f"/>
                </a:solidFill>
                <a:latin typeface="Franklin Gothic Book"/>
              </a:rPr>
              <a:t>[</a:t>
            </a:r>
            <a:r>
              <a:rPr b="1" lang="ru-RU" sz="2800" spc="-1" strike="noStrike">
                <a:solidFill>
                  <a:srgbClr val="00192f"/>
                </a:solidFill>
                <a:latin typeface="Franklin Gothic Book"/>
              </a:rPr>
              <a:t>вкл</a:t>
            </a:r>
            <a:r>
              <a:rPr b="1" lang="en-US" sz="2800" spc="-1" strike="noStrike">
                <a:solidFill>
                  <a:srgbClr val="00192f"/>
                </a:solidFill>
                <a:latin typeface="Franklin Gothic Book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3"/>
          <p:cNvSpPr/>
          <p:nvPr/>
        </p:nvSpPr>
        <p:spPr>
          <a:xfrm>
            <a:off x="571680" y="28584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8. Запустите проект кнопкой СТАРТ и задайте произвольную скорость бега для девоче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714240" y="1214280"/>
            <a:ext cx="7988400" cy="4500720"/>
          </a:xfrm>
          <a:prstGeom prst="rect">
            <a:avLst/>
          </a:prstGeom>
          <a:ln w="1908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6:50:44Z</dcterms:created>
  <dc:creator>Газизова</dc:creator>
  <dc:description/>
  <dc:language>en-US</dc:language>
  <cp:lastModifiedBy>Газизова</cp:lastModifiedBy>
  <dcterms:modified xsi:type="dcterms:W3CDTF">2018-03-04T19:39:31Z</dcterms:modified>
  <cp:revision>83</cp:revision>
  <dc:subject/>
  <dc:title>ЛОГОМИРЫ 3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Автор: Газизова Лениза">
    <vt:lpwstr>Ульяновск, лицей 90</vt:lpwstr>
  </property>
</Properties>
</file>