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gif" ContentType="image/gif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C25-2CB5-45F5-BEB4-1C387A33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1AA-4101-404B-A2E3-DDC01E2A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01F-3384-49D8-8B22-B9D85173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9B0-AD68-4C72-A250-1E7901EB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00C7-2325-4E46-854C-4ECDA5CD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B8DB-97E7-4DEA-8BED-697A97CB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46E3-E7B0-4BD1-9676-9D746BC4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A0FF-24A6-4B98-926A-4F0294E1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3C8D-D17E-4866-B3E2-CE2B837A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1534-F40E-4773-85FB-AF505551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1135-ED28-45EF-BF42-9BFFB0D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443-B128-4369-B77B-F2B5D10D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C46E-63CB-4E77-B104-CA2D907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6D09-E20B-48CB-9DD6-5A03785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ECEC-CC48-4005-93FC-96556354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7560-0848-4C33-A5C4-80F6A3E0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474B-6CE0-42AC-8E36-1058A303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8F9-B550-4267-A6DA-7A86C4B6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F18-32E1-47F5-931E-C0DA391D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74D-BC07-4354-BBB2-308D6843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EB3-52D5-492E-95EC-AE23EA99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157-5766-431D-AEC5-1C84EC08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ABC-E03E-43E4-894A-18F5824F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59B-A4E1-40CB-BE3E-8D0B3911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0380-710D-4310-92BB-F54584C23B5F}" type="slidenum">
              <a:rPr b="0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7754-CEE5-4663-9D99-7A53CB23157C}" type="slidenum">
              <a:rPr b="0" lang="ru-RU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TITU46"/>
          <p:cNvPicPr/>
          <p:nvPr/>
        </p:nvPicPr>
        <p:blipFill>
          <a:blip r:embed="rId1"/>
          <a:stretch/>
        </p:blipFill>
        <p:spPr>
          <a:xfrm>
            <a:off x="1403280" y="260280"/>
            <a:ext cx="7740720" cy="5805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7640" y="1883520"/>
            <a:ext cx="460872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DS Zombie Cyr"/>
              </a:rPr>
              <a:t>Рисунки на </a:t>
            </a:r>
            <a:r>
              <a:rPr b="0" lang="en-US" sz="4400" spc="-1" strike="noStrike">
                <a:solidFill>
                  <a:srgbClr val="ffcc00"/>
                </a:solidFill>
                <a:latin typeface="DS Zombie Cyr"/>
              </a:rPr>
              <a:t>Web</a:t>
            </a:r>
            <a:r>
              <a:rPr b="0" lang="ru-RU" sz="4400" spc="-1" strike="noStrike">
                <a:solidFill>
                  <a:srgbClr val="ffcc00"/>
                </a:solidFill>
                <a:latin typeface="DS Zombie Cyr"/>
              </a:rPr>
              <a:t>-страницах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6000" y="3789360"/>
            <a:ext cx="496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DS Zombie Cyr"/>
              </a:rPr>
              <a:t>Создание Web-сай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900000" y="476280"/>
            <a:ext cx="503280" cy="57610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Атрибуты тэга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M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1143000" y="3048120"/>
            <a:ext cx="7238520" cy="1751760"/>
            <a:chOff x="1143000" y="3048120"/>
            <a:chExt cx="7238520" cy="1751760"/>
          </a:xfrm>
        </p:grpSpPr>
        <p:sp>
          <p:nvSpPr>
            <p:cNvPr id="149" name="Rectangle 4"/>
            <p:cNvSpPr/>
            <p:nvPr/>
          </p:nvSpPr>
          <p:spPr>
            <a:xfrm>
              <a:off x="1143000" y="3048120"/>
              <a:ext cx="333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4480200" y="3048120"/>
              <a:ext cx="3901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43000" y="3924000"/>
              <a:ext cx="333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4480200" y="3924000"/>
              <a:ext cx="3901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53" name="Picture 26" descr=""/>
          <p:cNvPicPr/>
          <p:nvPr/>
        </p:nvPicPr>
        <p:blipFill>
          <a:blip r:embed="rId1"/>
          <a:srcRect l="0" t="48712" r="0" b="14860"/>
          <a:stretch/>
        </p:blipFill>
        <p:spPr>
          <a:xfrm>
            <a:off x="179280" y="1916280"/>
            <a:ext cx="8785440" cy="2127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7" descr=""/>
          <p:cNvPicPr/>
          <p:nvPr/>
        </p:nvPicPr>
        <p:blipFill>
          <a:blip r:embed="rId2"/>
          <a:srcRect l="709" t="28595" r="20263" b="47960"/>
          <a:stretch/>
        </p:blipFill>
        <p:spPr>
          <a:xfrm>
            <a:off x="0" y="4149720"/>
            <a:ext cx="9144000" cy="1967040"/>
          </a:xfrm>
          <a:prstGeom prst="rect">
            <a:avLst/>
          </a:prstGeom>
          <a:ln w="0">
            <a:noFill/>
          </a:ln>
        </p:spPr>
      </p:pic>
      <p:sp>
        <p:nvSpPr>
          <p:cNvPr id="155" name="Line 28"/>
          <p:cNvSpPr/>
          <p:nvPr/>
        </p:nvSpPr>
        <p:spPr>
          <a:xfrm>
            <a:off x="324000" y="2492280"/>
            <a:ext cx="540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Атрибуты тэга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M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1143000" y="3048120"/>
            <a:ext cx="7238520" cy="1751760"/>
            <a:chOff x="1143000" y="3048120"/>
            <a:chExt cx="7238520" cy="1751760"/>
          </a:xfrm>
        </p:grpSpPr>
        <p:sp>
          <p:nvSpPr>
            <p:cNvPr id="158" name="Rectangle 4"/>
            <p:cNvSpPr/>
            <p:nvPr/>
          </p:nvSpPr>
          <p:spPr>
            <a:xfrm>
              <a:off x="1143000" y="3048120"/>
              <a:ext cx="333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Rectangle 5"/>
            <p:cNvSpPr/>
            <p:nvPr/>
          </p:nvSpPr>
          <p:spPr>
            <a:xfrm>
              <a:off x="4480200" y="3048120"/>
              <a:ext cx="3901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Rectangle 6"/>
            <p:cNvSpPr/>
            <p:nvPr/>
          </p:nvSpPr>
          <p:spPr>
            <a:xfrm>
              <a:off x="1143000" y="3924000"/>
              <a:ext cx="333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Rectangle 7"/>
            <p:cNvSpPr/>
            <p:nvPr/>
          </p:nvSpPr>
          <p:spPr>
            <a:xfrm>
              <a:off x="4480200" y="3924000"/>
              <a:ext cx="3901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62" name=""/>
          <p:cNvGraphicFramePr/>
          <p:nvPr/>
        </p:nvGraphicFramePr>
        <p:xfrm>
          <a:off x="324000" y="1989000"/>
          <a:ext cx="8534160" cy="3041640"/>
        </p:xfrm>
        <a:graphic>
          <a:graphicData uri="http://schemas.openxmlformats.org/drawingml/2006/table">
            <a:tbl>
              <a:tblPr/>
              <a:tblGrid>
                <a:gridCol w="1855800"/>
                <a:gridCol w="6678360"/>
              </a:tblGrid>
              <a:tr h="30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vspac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пределяет размер отступа в пикселах сверху и снизу от изображения, улучшает внешний вид страницы, отделяя изображение от текста</a:t>
                      </a: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Атрибуты тэга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M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1143000" y="3048120"/>
            <a:ext cx="7238520" cy="1751760"/>
            <a:chOff x="1143000" y="3048120"/>
            <a:chExt cx="7238520" cy="1751760"/>
          </a:xfrm>
        </p:grpSpPr>
        <p:sp>
          <p:nvSpPr>
            <p:cNvPr id="165" name="Rectangle 4"/>
            <p:cNvSpPr/>
            <p:nvPr/>
          </p:nvSpPr>
          <p:spPr>
            <a:xfrm>
              <a:off x="1143000" y="3048120"/>
              <a:ext cx="333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4480200" y="3048120"/>
              <a:ext cx="3901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1143000" y="3924000"/>
              <a:ext cx="333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4480200" y="3924000"/>
              <a:ext cx="3901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324000" y="1989000"/>
          <a:ext cx="8534160" cy="2919600"/>
        </p:xfrm>
        <a:graphic>
          <a:graphicData uri="http://schemas.openxmlformats.org/drawingml/2006/table">
            <a:tbl>
              <a:tblPr/>
              <a:tblGrid>
                <a:gridCol w="1855800"/>
                <a:gridCol w="6678360"/>
              </a:tblGrid>
              <a:tr h="29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hspace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Определяет размер отступа в пикселах слева и справа от изображения, улучшает внешний вид страницы, отделяя изображение от текста</a:t>
                      </a: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начения атрибута </a:t>
            </a: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alig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324000" y="1916280"/>
            <a:ext cx="17827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476360" y="1916280"/>
            <a:ext cx="7132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исунок слева от текстового массив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14" descr=""/>
          <p:cNvPicPr/>
          <p:nvPr/>
        </p:nvPicPr>
        <p:blipFill>
          <a:blip r:embed="rId1"/>
          <a:stretch/>
        </p:blipFill>
        <p:spPr>
          <a:xfrm>
            <a:off x="250920" y="2633760"/>
            <a:ext cx="8642160" cy="2454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6"/>
          <p:cNvSpPr/>
          <p:nvPr/>
        </p:nvSpPr>
        <p:spPr>
          <a:xfrm>
            <a:off x="250920" y="4724280"/>
            <a:ext cx="8642160" cy="360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начения атрибута </a:t>
            </a: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alig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95280" y="1989000"/>
            <a:ext cx="1782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763640" y="1989000"/>
            <a:ext cx="713268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исунок справа от текстового массив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569080" cy="23986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250920" y="4724280"/>
            <a:ext cx="8642160" cy="360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начения атрибута </a:t>
            </a: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alig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24000" y="1989000"/>
            <a:ext cx="17827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midd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2011320" y="1916280"/>
            <a:ext cx="713268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дна строка текста справа на уровне середины рисунк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14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8424720" cy="22240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5"/>
          <p:cNvSpPr/>
          <p:nvPr/>
        </p:nvSpPr>
        <p:spPr>
          <a:xfrm>
            <a:off x="395280" y="4797360"/>
            <a:ext cx="842472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начения атрибута </a:t>
            </a: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alig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50920" y="1844640"/>
            <a:ext cx="17827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bott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011320" y="1989000"/>
            <a:ext cx="7132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дна строка текста справа на уровне нижнего края рисунк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rcRect l="0" t="0" r="0" b="3266"/>
          <a:stretch/>
        </p:blipFill>
        <p:spPr>
          <a:xfrm>
            <a:off x="324000" y="3141720"/>
            <a:ext cx="8497800" cy="21589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324000" y="4797360"/>
            <a:ext cx="849600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начения атрибута </a:t>
            </a: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alig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87280" y="1619280"/>
            <a:ext cx="17827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to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070000" y="1619280"/>
            <a:ext cx="7132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дна строка текста справа на уровне верхнего края рисунк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Picture 14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8713800" cy="24321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5"/>
          <p:cNvSpPr/>
          <p:nvPr/>
        </p:nvSpPr>
        <p:spPr>
          <a:xfrm>
            <a:off x="179280" y="4724280"/>
            <a:ext cx="8713800" cy="433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копируйте в папку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g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айл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remlin.gif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AG.gif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xema.png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cow.jp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файл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ex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вставьте картинки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рава от заголовка страницы 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AG.gif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мером 6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50 пикселов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д разделительной линией 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remlin.gif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по центру, размером 51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240 пикселов, с подсказкой «М.Н.Воробьев. Вид Московского Кремля. 1818»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"/>
          <p:cNvPicPr/>
          <p:nvPr/>
        </p:nvPicPr>
        <p:blipFill>
          <a:blip r:embed="rId1"/>
          <a:srcRect l="0" t="14651" r="1857" b="42387"/>
          <a:stretch/>
        </p:blipFill>
        <p:spPr>
          <a:xfrm>
            <a:off x="81000" y="1857240"/>
            <a:ext cx="8920080" cy="29289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250920" y="9079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Результат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Рисунки на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eb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-страниц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79640" y="2349360"/>
          <a:ext cx="4691160" cy="2818080"/>
        </p:xfrm>
        <a:graphic>
          <a:graphicData uri="http://schemas.openxmlformats.org/drawingml/2006/table">
            <a:tbl>
              <a:tblPr/>
              <a:tblGrid>
                <a:gridCol w="1828800"/>
                <a:gridCol w="2862360"/>
              </a:tblGrid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Формат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Расширение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IF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.gif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PEG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.jpg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NG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.png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0" y="1357200"/>
            <a:ext cx="46432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8320" y="857160"/>
            <a:ext cx="88153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 втором абзаце 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xema.png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без изменения размера, с выравниванием по левому краю,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олщиной рамки 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иксела, отступом 5 пикселов сверху и снизу и 5 пикселов справа и слева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 третьем абзаце 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cow.jpg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с выравниванием по правому краю, с подсказкой 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сная площадь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», размером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5%</a:t>
            </a:r>
            <a:r>
              <a:rPr b="1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5%,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олщиной рамки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5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икселов, отступом 5 пикселов сверху и снизу и 20 пикселов справа и сле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rcRect l="0" t="26368" r="1857" b="25782"/>
          <a:stretch/>
        </p:blipFill>
        <p:spPr>
          <a:xfrm>
            <a:off x="71280" y="1928880"/>
            <a:ext cx="8987040" cy="32860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2"/>
          <p:cNvSpPr/>
          <p:nvPr/>
        </p:nvSpPr>
        <p:spPr>
          <a:xfrm>
            <a:off x="250920" y="9079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Результат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Формат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GIF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95" name="Group 7"/>
          <p:cNvGrpSpPr/>
          <p:nvPr/>
        </p:nvGrpSpPr>
        <p:grpSpPr>
          <a:xfrm>
            <a:off x="0" y="1752480"/>
            <a:ext cx="9144000" cy="3885480"/>
            <a:chOff x="0" y="1752480"/>
            <a:chExt cx="9144000" cy="3885480"/>
          </a:xfrm>
        </p:grpSpPr>
        <p:grpSp>
          <p:nvGrpSpPr>
            <p:cNvPr id="96" name="Group 5"/>
            <p:cNvGrpSpPr/>
            <p:nvPr/>
          </p:nvGrpSpPr>
          <p:grpSpPr>
            <a:xfrm>
              <a:off x="4320" y="1761840"/>
              <a:ext cx="9134640" cy="3866040"/>
              <a:chOff x="4320" y="1761840"/>
              <a:chExt cx="9134640" cy="3866040"/>
            </a:xfrm>
          </p:grpSpPr>
          <p:sp>
            <p:nvSpPr>
              <p:cNvPr id="97" name="Rectangle 3"/>
              <p:cNvSpPr/>
              <p:nvPr/>
            </p:nvSpPr>
            <p:spPr>
              <a:xfrm>
                <a:off x="4320" y="1761840"/>
                <a:ext cx="9134640" cy="38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14240" indent="-257040">
                  <a:lnSpc>
                    <a:spcPct val="100000"/>
                  </a:lnSpc>
                  <a:buClr>
                    <a:srgbClr val="ffff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256</a:t>
                </a:r>
                <a:r>
                  <a:rPr b="0" lang="ru-RU" sz="36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ru-RU" sz="3600" spc="-1" strike="noStrike">
                    <a:solidFill>
                      <a:srgbClr val="ffffcc"/>
                    </a:solidFill>
                    <a:latin typeface="Times New Roman"/>
                  </a:rPr>
                  <a:t>цветов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14240" indent="-257040">
                  <a:lnSpc>
                    <a:spcPct val="100000"/>
                  </a:lnSpc>
                  <a:buClr>
                    <a:srgbClr val="ffffcc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ffcc"/>
                    </a:solidFill>
                    <a:latin typeface="Times New Roman"/>
                  </a:rPr>
                  <a:t>возможен прозрачный фон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14240" indent="-257040">
                  <a:lnSpc>
                    <a:spcPct val="100000"/>
                  </a:lnSpc>
                  <a:buClr>
                    <a:srgbClr val="ffffcc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ffcc"/>
                    </a:solidFill>
                    <a:latin typeface="Times New Roman"/>
                  </a:rPr>
                  <a:t>осуществляет анимацию изображения</a:t>
                </a:r>
                <a:r>
                  <a:rPr b="1" lang="ru-RU" sz="32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ffff"/>
                    </a:solidFill>
                    <a:latin typeface="Times New Roman"/>
                  </a:rPr>
                  <a:t>Используют для рисунков и gif-анимации.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" name="Rectangle 4"/>
              <p:cNvSpPr/>
              <p:nvPr/>
            </p:nvSpPr>
            <p:spPr>
              <a:xfrm>
                <a:off x="4320" y="1761840"/>
                <a:ext cx="9134640" cy="38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9" name="Rectangle 6"/>
            <p:cNvSpPr/>
            <p:nvPr/>
          </p:nvSpPr>
          <p:spPr>
            <a:xfrm>
              <a:off x="0" y="1752480"/>
              <a:ext cx="9144000" cy="38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00" name="Picture 12" descr="thanks2"/>
          <p:cNvPicPr/>
          <p:nvPr/>
        </p:nvPicPr>
        <p:blipFill>
          <a:blip r:embed="rId1"/>
          <a:stretch/>
        </p:blipFill>
        <p:spPr>
          <a:xfrm>
            <a:off x="4859280" y="1052640"/>
            <a:ext cx="1581120" cy="160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thanks1"/>
          <p:cNvPicPr/>
          <p:nvPr/>
        </p:nvPicPr>
        <p:blipFill>
          <a:blip r:embed="rId2"/>
          <a:stretch/>
        </p:blipFill>
        <p:spPr>
          <a:xfrm>
            <a:off x="7164360" y="1125360"/>
            <a:ext cx="158112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cheetah"/>
          <p:cNvPicPr/>
          <p:nvPr/>
        </p:nvPicPr>
        <p:blipFill>
          <a:blip r:embed="rId3"/>
          <a:stretch/>
        </p:blipFill>
        <p:spPr>
          <a:xfrm>
            <a:off x="611280" y="4076640"/>
            <a:ext cx="23414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Формат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JPE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04" name="Group 1031"/>
          <p:cNvGrpSpPr/>
          <p:nvPr/>
        </p:nvGrpSpPr>
        <p:grpSpPr>
          <a:xfrm>
            <a:off x="0" y="2060640"/>
            <a:ext cx="9153360" cy="3401640"/>
            <a:chOff x="0" y="2060640"/>
            <a:chExt cx="9153360" cy="3401640"/>
          </a:xfrm>
        </p:grpSpPr>
        <p:grpSp>
          <p:nvGrpSpPr>
            <p:cNvPr id="105" name="Group 1029"/>
            <p:cNvGrpSpPr/>
            <p:nvPr/>
          </p:nvGrpSpPr>
          <p:grpSpPr>
            <a:xfrm>
              <a:off x="4680" y="2068560"/>
              <a:ext cx="9144000" cy="3384720"/>
              <a:chOff x="4680" y="2068560"/>
              <a:chExt cx="9144000" cy="3384720"/>
            </a:xfrm>
          </p:grpSpPr>
          <p:sp>
            <p:nvSpPr>
              <p:cNvPr id="106" name="Rectangle 1027"/>
              <p:cNvSpPr/>
              <p:nvPr/>
            </p:nvSpPr>
            <p:spPr>
              <a:xfrm>
                <a:off x="4680" y="2068560"/>
                <a:ext cx="9144000" cy="338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800280" indent="-343080">
                  <a:lnSpc>
                    <a:spcPct val="100000"/>
                  </a:lnSpc>
                  <a:buClr>
                    <a:srgbClr val="ffffcc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16 млн.</a:t>
                </a:r>
                <a:r>
                  <a:rPr b="1" lang="ru-RU" sz="3600" spc="-1" strike="noStrike">
                    <a:solidFill>
                      <a:srgbClr val="ffffcc"/>
                    </a:solidFill>
                    <a:latin typeface="Times New Roman"/>
                  </a:rPr>
                  <a:t> цветов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800280" indent="-343080">
                  <a:lnSpc>
                    <a:spcPct val="100000"/>
                  </a:lnSpc>
                  <a:buClr>
                    <a:srgbClr val="ffffcc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ffcc"/>
                    </a:solidFill>
                    <a:latin typeface="Times New Roman"/>
                  </a:rPr>
                  <a:t>фотографическое качество изображений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800280" indent="-343080">
                  <a:lnSpc>
                    <a:spcPct val="100000"/>
                  </a:lnSpc>
                  <a:buClr>
                    <a:srgbClr val="ffffcc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ffcc"/>
                    </a:solidFill>
                    <a:latin typeface="Times New Roman"/>
                  </a:rPr>
                  <a:t>позволяет задать сжатие за счет потери качества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ffff"/>
                    </a:solidFill>
                    <a:latin typeface="Times New Roman"/>
                  </a:rPr>
                  <a:t>Используют для рисунков и</a:t>
                </a:r>
                <a:r>
                  <a:rPr b="0" lang="ru-RU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1" lang="ru-RU" sz="3600" spc="-1" strike="noStrike">
                    <a:solidFill>
                      <a:srgbClr val="ffffff"/>
                    </a:solidFill>
                    <a:latin typeface="Times New Roman"/>
                  </a:rPr>
                  <a:t>фотографий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" name="Rectangle 1028"/>
              <p:cNvSpPr/>
              <p:nvPr/>
            </p:nvSpPr>
            <p:spPr>
              <a:xfrm>
                <a:off x="4680" y="2068560"/>
                <a:ext cx="9144000" cy="338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8" name="Rectangle 1030"/>
            <p:cNvSpPr/>
            <p:nvPr/>
          </p:nvSpPr>
          <p:spPr>
            <a:xfrm>
              <a:off x="0" y="2060640"/>
              <a:ext cx="9153360" cy="34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09" name="Picture 1034" descr="miki"/>
          <p:cNvPicPr/>
          <p:nvPr/>
        </p:nvPicPr>
        <p:blipFill>
          <a:blip r:embed="rId1"/>
          <a:stretch/>
        </p:blipFill>
        <p:spPr>
          <a:xfrm>
            <a:off x="4716360" y="907920"/>
            <a:ext cx="2016360" cy="163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35" descr="srav"/>
          <p:cNvPicPr/>
          <p:nvPr/>
        </p:nvPicPr>
        <p:blipFill>
          <a:blip r:embed="rId2"/>
          <a:stretch/>
        </p:blipFill>
        <p:spPr>
          <a:xfrm>
            <a:off x="6804000" y="8524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Формат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0" y="1484280"/>
            <a:ext cx="7715160" cy="4479480"/>
            <a:chOff x="0" y="1484280"/>
            <a:chExt cx="7715160" cy="4479480"/>
          </a:xfrm>
        </p:grpSpPr>
        <p:grpSp>
          <p:nvGrpSpPr>
            <p:cNvPr id="113" name="Group 5"/>
            <p:cNvGrpSpPr/>
            <p:nvPr/>
          </p:nvGrpSpPr>
          <p:grpSpPr>
            <a:xfrm>
              <a:off x="3600" y="1491840"/>
              <a:ext cx="7707240" cy="4462560"/>
              <a:chOff x="3600" y="1491840"/>
              <a:chExt cx="7707240" cy="4462560"/>
            </a:xfrm>
          </p:grpSpPr>
          <p:sp>
            <p:nvSpPr>
              <p:cNvPr id="114" name="Rectangle 3"/>
              <p:cNvSpPr/>
              <p:nvPr/>
            </p:nvSpPr>
            <p:spPr>
              <a:xfrm>
                <a:off x="3600" y="1491840"/>
                <a:ext cx="7707240" cy="44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14240" indent="-257040">
                  <a:lnSpc>
                    <a:spcPct val="100000"/>
                  </a:lnSpc>
                  <a:buClr>
                    <a:srgbClr val="ffffcc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281 трлн.</a:t>
                </a:r>
                <a:r>
                  <a:rPr b="1" lang="ru-RU" sz="3600" spc="-1" strike="noStrike">
                    <a:solidFill>
                      <a:srgbClr val="ffffcc"/>
                    </a:solidFill>
                    <a:latin typeface="Times New Roman"/>
                  </a:rPr>
                  <a:t> цветов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14240" indent="-257040">
                  <a:lnSpc>
                    <a:spcPct val="100000"/>
                  </a:lnSpc>
                  <a:buClr>
                    <a:srgbClr val="ffffcc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ffcc"/>
                    </a:solidFill>
                    <a:latin typeface="Times New Roman"/>
                  </a:rPr>
                  <a:t>возможен прозрачный фон 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14240" indent="-2570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1" lang="ru-RU" sz="3600" spc="-1" strike="noStrike">
                    <a:solidFill>
                      <a:srgbClr val="ffffcc"/>
                    </a:solidFill>
                    <a:latin typeface="Times New Roman"/>
                  </a:rPr>
                  <a:t>(с различной степенью прозрачности)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14240" indent="-257040">
                  <a:lnSpc>
                    <a:spcPct val="100000"/>
                  </a:lnSpc>
                  <a:buClr>
                    <a:srgbClr val="ffffcc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ffcc"/>
                    </a:solidFill>
                    <a:latin typeface="Times New Roman"/>
                  </a:rPr>
                  <a:t>помехоустойчивый, осуществляет проверку на ошибки при передаче файлов</a:t>
                </a:r>
                <a:r>
                  <a:rPr b="1" lang="ru-RU" sz="32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" name="Rectangle 4"/>
              <p:cNvSpPr/>
              <p:nvPr/>
            </p:nvSpPr>
            <p:spPr>
              <a:xfrm>
                <a:off x="3600" y="1491840"/>
                <a:ext cx="7707240" cy="44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6" name="Rectangle 6"/>
            <p:cNvSpPr/>
            <p:nvPr/>
          </p:nvSpPr>
          <p:spPr>
            <a:xfrm>
              <a:off x="0" y="1484280"/>
              <a:ext cx="7715160" cy="44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7" name="Text Box 11"/>
          <p:cNvSpPr/>
          <p:nvPr/>
        </p:nvSpPr>
        <p:spPr>
          <a:xfrm>
            <a:off x="486000" y="5589720"/>
            <a:ext cx="86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пользуют для рисунков и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фотографий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2" descr="cxema"/>
          <p:cNvPicPr/>
          <p:nvPr/>
        </p:nvPicPr>
        <p:blipFill>
          <a:blip r:embed="rId1"/>
          <a:stretch/>
        </p:blipFill>
        <p:spPr>
          <a:xfrm>
            <a:off x="6948360" y="2781360"/>
            <a:ext cx="1851120" cy="230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551087"/>
          <p:cNvPicPr/>
          <p:nvPr/>
        </p:nvPicPr>
        <p:blipFill>
          <a:blip r:embed="rId2"/>
          <a:stretch/>
        </p:blipFill>
        <p:spPr>
          <a:xfrm>
            <a:off x="6084720" y="549360"/>
            <a:ext cx="2808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Размещение рисунков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(тэг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IMG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24240" y="4653000"/>
            <a:ext cx="7437960" cy="764280"/>
          </a:xfrm>
          <a:prstGeom prst="rect">
            <a:avLst/>
          </a:prstGeom>
          <a:noFill/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&lt;IMG   src="image_name"&gt;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109320" y="3068280"/>
            <a:ext cx="603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бязательный атрибут, указывающий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URL-адрес рисунка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Line 5"/>
          <p:cNvSpPr/>
          <p:nvPr/>
        </p:nvSpPr>
        <p:spPr>
          <a:xfrm flipH="1">
            <a:off x="3276720" y="4076640"/>
            <a:ext cx="586728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Line 6"/>
          <p:cNvSpPr/>
          <p:nvPr/>
        </p:nvSpPr>
        <p:spPr>
          <a:xfrm flipH="1">
            <a:off x="3059280" y="4076640"/>
            <a:ext cx="217440" cy="7923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Атрибуты тэга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M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1143000" y="3048120"/>
            <a:ext cx="7238520" cy="1751760"/>
            <a:chOff x="1143000" y="3048120"/>
            <a:chExt cx="7238520" cy="1751760"/>
          </a:xfrm>
        </p:grpSpPr>
        <p:sp>
          <p:nvSpPr>
            <p:cNvPr id="127" name="Rectangle 4"/>
            <p:cNvSpPr/>
            <p:nvPr/>
          </p:nvSpPr>
          <p:spPr>
            <a:xfrm>
              <a:off x="1143000" y="3048120"/>
              <a:ext cx="333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Rectangle 5"/>
            <p:cNvSpPr/>
            <p:nvPr/>
          </p:nvSpPr>
          <p:spPr>
            <a:xfrm>
              <a:off x="4480200" y="3048120"/>
              <a:ext cx="3901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1143000" y="3924000"/>
              <a:ext cx="333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Rectangle 7"/>
            <p:cNvSpPr/>
            <p:nvPr/>
          </p:nvSpPr>
          <p:spPr>
            <a:xfrm>
              <a:off x="4480200" y="3924000"/>
              <a:ext cx="3901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324000" y="2276640"/>
          <a:ext cx="8534160" cy="3992400"/>
        </p:xfrm>
        <a:graphic>
          <a:graphicData uri="http://schemas.openxmlformats.org/drawingml/2006/table">
            <a:tbl>
              <a:tblPr/>
              <a:tblGrid>
                <a:gridCol w="1855800"/>
                <a:gridCol w="6678360"/>
              </a:tblGrid>
              <a:tr h="40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width height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Ширина и высота картинки в пикселах или процентах. Желательно устанавливать этот параметр для ускорения загрузки страницы браузером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18"/>
          <p:cNvSpPr/>
          <p:nvPr/>
        </p:nvSpPr>
        <p:spPr>
          <a:xfrm>
            <a:off x="-100080" y="4679280"/>
            <a:ext cx="94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IMG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rc="car.gif" width="30" height="75" align="left"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0" y="5303520"/>
            <a:ext cx="945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IMG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rc="car.gif" width="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" height="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0%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" align="left"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AutoShape 25"/>
          <p:cNvSpPr/>
          <p:nvPr/>
        </p:nvSpPr>
        <p:spPr>
          <a:xfrm>
            <a:off x="1547640" y="2133720"/>
            <a:ext cx="358920" cy="1439640"/>
          </a:xfrm>
          <a:custGeom>
            <a:avLst/>
            <a:gdLst>
              <a:gd name="textAreaLeft" fmla="*/ 0 w 358920"/>
              <a:gd name="textAreaRight" fmla="*/ 129600 w 35892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2"/>
                </a:lnTo>
                <a:cubicBezTo>
                  <a:pt x="10800" y="9912"/>
                  <a:pt x="16200" y="10812"/>
                  <a:pt x="21600" y="10812"/>
                </a:cubicBezTo>
                <a:cubicBezTo>
                  <a:pt x="16200" y="10812"/>
                  <a:pt x="10800" y="11712"/>
                  <a:pt x="10800" y="1261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Атрибуты тэга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M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0920" y="1773360"/>
          <a:ext cx="8713800" cy="2992320"/>
        </p:xfrm>
        <a:graphic>
          <a:graphicData uri="http://schemas.openxmlformats.org/drawingml/2006/table">
            <a:tbl>
              <a:tblPr/>
              <a:tblGrid>
                <a:gridCol w="936360"/>
                <a:gridCol w="7777440"/>
              </a:tblGrid>
              <a:tr h="30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lt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одпись рисунка (выводит текст к картинке):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олезно, если браузер не отображает графику на странице: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Picture 72" descr=""/>
          <p:cNvPicPr/>
          <p:nvPr/>
        </p:nvPicPr>
        <p:blipFill>
          <a:blip r:embed="rId1"/>
          <a:srcRect l="1698" t="0" r="11864" b="0"/>
          <a:stretch/>
        </p:blipFill>
        <p:spPr>
          <a:xfrm>
            <a:off x="1187280" y="4797360"/>
            <a:ext cx="7344000" cy="1287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8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7272360" cy="15033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2"/>
          <p:cNvSpPr/>
          <p:nvPr/>
        </p:nvSpPr>
        <p:spPr>
          <a:xfrm rot="2749800">
            <a:off x="2141280" y="3188880"/>
            <a:ext cx="231480" cy="111240"/>
          </a:xfrm>
          <a:prstGeom prst="leftArrow">
            <a:avLst>
              <a:gd name="adj1" fmla="val 50000"/>
              <a:gd name="adj2" fmla="val 52023"/>
            </a:avLst>
          </a:prstGeom>
          <a:solidFill>
            <a:srgbClr val="ffffff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Атрибуты тэга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M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1143000" y="3048120"/>
            <a:ext cx="7238520" cy="1751760"/>
            <a:chOff x="1143000" y="3048120"/>
            <a:chExt cx="7238520" cy="1751760"/>
          </a:xfrm>
        </p:grpSpPr>
        <p:sp>
          <p:nvSpPr>
            <p:cNvPr id="142" name="Rectangle 4"/>
            <p:cNvSpPr/>
            <p:nvPr/>
          </p:nvSpPr>
          <p:spPr>
            <a:xfrm>
              <a:off x="1143000" y="3048120"/>
              <a:ext cx="333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>
              <a:off x="4480200" y="3048120"/>
              <a:ext cx="3901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1143000" y="3924000"/>
              <a:ext cx="333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4480200" y="3924000"/>
              <a:ext cx="3901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46" name=""/>
          <p:cNvGraphicFramePr/>
          <p:nvPr/>
        </p:nvGraphicFramePr>
        <p:xfrm>
          <a:off x="179280" y="1989000"/>
          <a:ext cx="8964720" cy="3078360"/>
        </p:xfrm>
        <a:graphic>
          <a:graphicData uri="http://schemas.openxmlformats.org/drawingml/2006/table">
            <a:tbl>
              <a:tblPr/>
              <a:tblGrid>
                <a:gridCol w="1440000"/>
                <a:gridCol w="752472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border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Устанавливает толщину рамки вокруг изображения в пикселях. По умолчанию рамка не используется. При использовании изображения в качестве гиперссылки рекомендуется установить BORDER=0, чтобы подавить цветовую окантовку, которая появится вокруг изображения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1:09:50Z</dcterms:created>
  <dc:creator>Газизова Л.Р.</dc:creator>
  <dc:description/>
  <dc:language>en-US</dc:language>
  <cp:lastModifiedBy>Газизова</cp:lastModifiedBy>
  <dcterms:modified xsi:type="dcterms:W3CDTF">2010-01-28T14:28:01Z</dcterms:modified>
  <cp:revision>168</cp:revision>
  <dc:subject/>
  <dc:title>Добавление рисунков на страницы</dc:title>
</cp:coreProperties>
</file>